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71B-F097-43E6-9A0E-0A3C838F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BBD9-672E-4BD4-85FD-94508977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57D-A14E-4714-880C-D83BBC3C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B70-74FB-44D3-841C-A0621351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860-4A1D-4013-AE1B-D5502BC8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F66-D28A-44EA-B051-797EF0A5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88B-9140-4502-B2D6-80A8EC7E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9D87-1848-4655-ADC0-0F923FB5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DC5-6473-4005-80C1-0A1C85A6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FC8-3F49-4178-8C15-6C6CE8D6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D38-FA13-493E-A3AE-E2E1D146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ABE-0B31-41AB-A303-84EBACEE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4CD0-0298-4DB3-B9AB-3A0CB206E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476280"/>
            <a:ext cx="3857760" cy="14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urniture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8098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233360"/>
            <a:ext cx="5715000" cy="439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836640"/>
            <a:ext cx="936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981000"/>
            <a:ext cx="180036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549360"/>
            <a:ext cx="144000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907920"/>
            <a:ext cx="7308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2421000"/>
            <a:ext cx="10810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13372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id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200" y="3078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helf/sh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692280"/>
            <a:ext cx="1008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1440" y="5238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20560" y="1112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81280" y="4716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up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93640" y="24876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71640" y="2708280"/>
            <a:ext cx="331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3240" y="1047600"/>
            <a:ext cx="4457520" cy="4762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1268280"/>
            <a:ext cx="172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292720" y="765000"/>
            <a:ext cx="7128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80000" y="765000"/>
            <a:ext cx="158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7960" y="7873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cc"/>
                </a:solidFill>
                <a:latin typeface="comic"/>
              </a:rPr>
              <a:t>cur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1268280"/>
            <a:ext cx="3024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70040" y="-3240"/>
            <a:ext cx="20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33cc"/>
                </a:solidFill>
                <a:latin typeface="comic"/>
              </a:rPr>
              <a:t>lam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0:34:02Z</dcterms:created>
  <dc:creator>I.E.S. FEDERICO GARCIA LORCA</dc:creator>
  <dc:description/>
  <dc:language>en-US</dc:language>
  <cp:lastModifiedBy>rmi</cp:lastModifiedBy>
  <dcterms:modified xsi:type="dcterms:W3CDTF">2009-04-24T17:06:28Z</dcterms:modified>
  <cp:revision>3</cp:revision>
  <dc:subject/>
  <dc:title>Diapositiva 1</dc:title>
</cp:coreProperties>
</file>